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28.jpeg" ContentType="image/jpe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2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BA0-E871-4ACE-8EC8-52B665A9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3B8-8C3C-494B-BBDB-52D6188D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3A94-5F9A-41C5-A0AD-4857A79B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F069-61F8-483E-AF0F-D7139039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6E2-D7F9-4DA2-9293-CB03CF4E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F47-3F40-4CED-8AAE-7F307036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C45-D53D-4939-95D9-AA554BFF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11D-175C-4E12-96BD-D1EE63DE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D951-3204-407F-A327-643798DA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0A6-ADDB-409A-AEE6-0E5ACCAE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E65-FAED-4F25-9C7A-A9CD96ED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6C7-FAA5-4766-96B3-B9BB5F51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2302-E98D-4F51-AD84-090126459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NL_Flag.sv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c/Bombing_in_Vietnam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foliation_agent_spraying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digitaljournalist.org/issue0008/main_pages/images/NG19a.jpg" TargetMode="External"/><Relationship Id="rId2" Type="http://schemas.openxmlformats.org/officeDocument/2006/relationships/hyperlink" Target="http://www.digitaljournalist.org/issue0008/main_pages/images/NG19a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digitaljournalist.org/issue0008/main_pages/images/NG33a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digitaljournalist.org/issue0008/main_pages/images/NG25a.jpg" TargetMode="External"/><Relationship Id="rId2" Type="http://schemas.openxmlformats.org/officeDocument/2006/relationships/hyperlink" Target="http://www.digitaljournalist.org/issue0008/main_pages/images/NG25a.jpg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igitaljournalist.org/issue0008/main_pages/images/NG26a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France.svg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en.wikipedia.org/wiki/File:Flag_of_the_United_States.svg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go_Dinh_Diem_-_Thumbnail_-_ARC_542189.gif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hapter19:  The Vietnam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Vietnam Patrol"/>
          <p:cNvPicPr/>
          <p:nvPr/>
        </p:nvPicPr>
        <p:blipFill>
          <a:blip r:embed="rId1"/>
          <a:stretch/>
        </p:blipFill>
        <p:spPr>
          <a:xfrm>
            <a:off x="533520" y="1295280"/>
            <a:ext cx="8091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************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America Becomes Involved in Viet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Vietc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th Vietnamese communists organize after cancelled e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to kill SV gov’t offic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senhower sends in military advisers to train SV ar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844720" y="240516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0" tIns="-78840" bIns="-78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FNL Flag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590920"/>
            <a:ext cx="4108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Kennedy and Vietn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0: supports D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m continues with cor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t Vietnamese executes Diem/JFK assassina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’6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J now president and does not want to appear “soft” on commu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John_f_kennedy1963"/>
          <p:cNvPicPr/>
          <p:nvPr/>
        </p:nvPicPr>
        <p:blipFill>
          <a:blip r:embed="rId1"/>
          <a:stretch/>
        </p:blipFill>
        <p:spPr>
          <a:xfrm>
            <a:off x="4724280" y="1600200"/>
            <a:ext cx="2311560" cy="2462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Diem"/>
          <p:cNvPicPr/>
          <p:nvPr/>
        </p:nvPicPr>
        <p:blipFill>
          <a:blip r:embed="rId2"/>
          <a:stretch/>
        </p:blipFill>
        <p:spPr>
          <a:xfrm>
            <a:off x="6967440" y="1905120"/>
            <a:ext cx="2176560" cy="1935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029200" y="4160880"/>
            <a:ext cx="3409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.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ategic Haml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to protect SV from communist by relocating th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de things worse for D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99040" y="0"/>
            <a:ext cx="387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Pres. Johnson expands the confli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lf Tonkin In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 US naval ships fired up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  Second attack unclear if it happe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 US spying on N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8" descr="h95611-300"/>
          <p:cNvPicPr/>
          <p:nvPr/>
        </p:nvPicPr>
        <p:blipFill>
          <a:blip r:embed="rId1"/>
          <a:stretch/>
        </p:blipFill>
        <p:spPr>
          <a:xfrm>
            <a:off x="4495680" y="2743200"/>
            <a:ext cx="426744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Pres. Johnson expands the confli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kin Gulf Resolution (1964): Granted Johnson military powers in Vietnam without officially declaring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Operation Rolling Thund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’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prolonged bombing of North Vietn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avoid sending in tr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 First combat troops sent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Image:Bombing in Vietna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3809880"/>
            <a:ext cx="250524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image icon: Operation Rolling Thunder"/>
          <p:cNvPicPr/>
          <p:nvPr/>
        </p:nvPicPr>
        <p:blipFill>
          <a:blip r:embed="rId3"/>
          <a:stretch/>
        </p:blipFill>
        <p:spPr>
          <a:xfrm>
            <a:off x="5181480" y="914400"/>
            <a:ext cx="30481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.  A Bloody Stalem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Tricks of the Vietc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rilla tactics: irregular warfare such as hit and run and ambush tac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ing within civilian pop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by traps/land m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rain and tu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File:Nvatransportcorps.jpg"/>
          <p:cNvPicPr/>
          <p:nvPr/>
        </p:nvPicPr>
        <p:blipFill>
          <a:blip r:embed="rId1"/>
          <a:stretch/>
        </p:blipFill>
        <p:spPr>
          <a:xfrm>
            <a:off x="4572000" y="2286000"/>
            <a:ext cx="457200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tcong Tunn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vietcong tunnel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7639-Cu-Chi-Tunnels-Vietnam-3"/>
          <p:cNvPicPr/>
          <p:nvPr/>
        </p:nvPicPr>
        <p:blipFill>
          <a:blip r:embed="rId1"/>
          <a:stretch/>
        </p:blipFill>
        <p:spPr>
          <a:xfrm>
            <a:off x="21337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 algn="ctr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arch and Destroy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 Strate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earing down the enemy by continuous harassment; progress measured by the # d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  Napalm/agent o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  Search and destroy 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Image:Vietcongsuspect.jpg"/>
          <p:cNvPicPr/>
          <p:nvPr/>
        </p:nvPicPr>
        <p:blipFill>
          <a:blip r:embed="rId1"/>
          <a:stretch/>
        </p:blipFill>
        <p:spPr>
          <a:xfrm>
            <a:off x="4724280" y="2209680"/>
            <a:ext cx="44197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19.1:  Going to War in Vietn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United States tries to control the spread of communism in Viet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trataTeam_to_the_North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 Or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Vietnam. Defoliation Mission. A UH-1D helicopter from the  336th Aviation Company sprays a defoliation agent on a dense jungle area in the Mekong delta., July 26, 19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990720"/>
            <a:ext cx="586728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CM_Trail"/>
          <p:cNvPicPr/>
          <p:nvPr/>
        </p:nvPicPr>
        <p:blipFill>
          <a:blip r:embed="rId1"/>
          <a:stretch/>
        </p:blipFill>
        <p:spPr>
          <a:xfrm>
            <a:off x="2362320" y="0"/>
            <a:ext cx="4887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palm(gasoline-base bomb) at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0" y="2023920"/>
            <a:ext cx="9144000" cy="2743200"/>
            <a:chOff x="0" y="2023920"/>
            <a:chExt cx="9144000" cy="2743200"/>
          </a:xfrm>
        </p:grpSpPr>
        <p:sp>
          <p:nvSpPr>
            <p:cNvPr id="116" name="Rectangle 4"/>
            <p:cNvSpPr/>
            <p:nvPr/>
          </p:nvSpPr>
          <p:spPr>
            <a:xfrm>
              <a:off x="0" y="2023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0" y="2023920"/>
              <a:ext cx="914400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6"/>
          <p:cNvGrpSpPr/>
          <p:nvPr/>
        </p:nvGrpSpPr>
        <p:grpSpPr>
          <a:xfrm>
            <a:off x="0" y="1960560"/>
            <a:ext cx="9144000" cy="2865600"/>
            <a:chOff x="0" y="1960560"/>
            <a:chExt cx="9144000" cy="2865600"/>
          </a:xfrm>
        </p:grpSpPr>
        <p:sp>
          <p:nvSpPr>
            <p:cNvPr id="119" name="Rectangle 7"/>
            <p:cNvSpPr/>
            <p:nvPr/>
          </p:nvSpPr>
          <p:spPr>
            <a:xfrm>
              <a:off x="0" y="1960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0" y="1960560"/>
              <a:ext cx="9144000" cy="28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8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Picture 9" descr="NG19b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1488960"/>
            <a:ext cx="6705360" cy="53690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NG33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9080"/>
            <a:ext cx="77724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1960560"/>
            <a:ext cx="9144000" cy="2865600"/>
            <a:chOff x="0" y="1960560"/>
            <a:chExt cx="9144000" cy="2865600"/>
          </a:xfrm>
        </p:grpSpPr>
        <p:sp>
          <p:nvSpPr>
            <p:cNvPr id="125" name="Rectangle 3"/>
            <p:cNvSpPr/>
            <p:nvPr/>
          </p:nvSpPr>
          <p:spPr>
            <a:xfrm>
              <a:off x="0" y="1960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4"/>
            <p:cNvSpPr/>
            <p:nvPr/>
          </p:nvSpPr>
          <p:spPr>
            <a:xfrm>
              <a:off x="0" y="1960560"/>
              <a:ext cx="9144000" cy="28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8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7" name="Picture 5" descr="NG25b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46080"/>
            <a:ext cx="807696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1960560"/>
            <a:ext cx="9144000" cy="2865600"/>
            <a:chOff x="0" y="1960560"/>
            <a:chExt cx="9144000" cy="2865600"/>
          </a:xfrm>
        </p:grpSpPr>
        <p:sp>
          <p:nvSpPr>
            <p:cNvPr id="129" name="Rectangle 3"/>
            <p:cNvSpPr/>
            <p:nvPr/>
          </p:nvSpPr>
          <p:spPr>
            <a:xfrm>
              <a:off x="0" y="1960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0" y="1960560"/>
              <a:ext cx="9144000" cy="28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Picture 5" descr="NG26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08200" y="0"/>
            <a:ext cx="403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Ho Chi Minh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and China supplied N. Vietn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ull-scale invasion of NV; US concerned China will enter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1105trail05"/>
          <p:cNvPicPr/>
          <p:nvPr/>
        </p:nvPicPr>
        <p:blipFill>
          <a:blip r:embed="rId1"/>
          <a:stretch/>
        </p:blipFill>
        <p:spPr>
          <a:xfrm>
            <a:off x="4648320" y="1905120"/>
            <a:ext cx="3786120" cy="4495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105trail04"/>
          <p:cNvPicPr/>
          <p:nvPr/>
        </p:nvPicPr>
        <p:blipFill>
          <a:blip r:embed="rId2"/>
          <a:stretch/>
        </p:blipFill>
        <p:spPr>
          <a:xfrm>
            <a:off x="1143000" y="4280040"/>
            <a:ext cx="31399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merica_and_the_Vietnam_War.asf" descr=""/>
          <p:cNvPicPr/>
          <p:nvPr/>
        </p:nvPicPr>
        <p:blipFill>
          <a:blip r:embed="rId1"/>
          <a:stretch/>
        </p:blipFill>
        <p:spPr>
          <a:xfrm>
            <a:off x="-11160" y="304920"/>
            <a:ext cx="9166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.  American Involvement in Viet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ulers of Vietn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efore WWII?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rance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. during WWI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. after WWII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.  Ho Chi Minh/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i. Ngo Dinh Diem/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vietnam"/>
          <p:cNvPicPr/>
          <p:nvPr/>
        </p:nvPicPr>
        <p:blipFill>
          <a:blip r:embed="rId1"/>
          <a:stretch/>
        </p:blipFill>
        <p:spPr>
          <a:xfrm>
            <a:off x="4648320" y="1339920"/>
            <a:ext cx="373356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In w/Ho Chi Min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st leader of Northern Vietn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 What did h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ce for Vietn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ere the Vietmin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thern Communist Vietnamese who wanted independ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he relate to contain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was supported by SU and Ch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Ho Chi Minh"/>
          <p:cNvPicPr/>
          <p:nvPr/>
        </p:nvPicPr>
        <p:blipFill>
          <a:blip r:embed="rId1"/>
          <a:stretch/>
        </p:blipFill>
        <p:spPr>
          <a:xfrm>
            <a:off x="4691160" y="1371600"/>
            <a:ext cx="39621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France vs. Vietmin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 reclaims Vietnam after WWII (194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should the U.S. hel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ing against commu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 of China’s &amp; Ko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man decides to aid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50-1954: U.S. spends $2.6 billion supporting France = domino theor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Flag of  Fra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914400"/>
            <a:ext cx="2514600" cy="167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Flag of the United States of Americ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1905120"/>
            <a:ext cx="2743200" cy="143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ho-chi-minh-photo"/>
          <p:cNvPicPr/>
          <p:nvPr/>
        </p:nvPicPr>
        <p:blipFill>
          <a:blip r:embed="rId5"/>
          <a:stretch/>
        </p:blipFill>
        <p:spPr>
          <a:xfrm>
            <a:off x="5334120" y="4267080"/>
            <a:ext cx="28191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4840" y="61560"/>
            <a:ext cx="6168960" cy="15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. Domino Theory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es. Eisenhower’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Vietnam fell to communism others would follow, so the U.S. must he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90680" y="2819520"/>
            <a:ext cx="8001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Defeat at Dien Bien Ph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tminh defeat French at Dien Bien Phu pos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954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guerilla tactic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1954:Geneva Accords (peace agreement) =  temporary divide at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m, southern leader, agreed to countrywide elections for 1956 – never happ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5638680" y="594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60640" y="3048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195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 French out =  U.S. Stepping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ions cance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 Chi Minh supported by the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m corrupt &amp; suppressed op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sed Buddhist practices; he’s Cat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Ngo Dinh Die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73880" y="2438280"/>
            <a:ext cx="244944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go Dinh Diem (South V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4-27T20:49:35Z</dcterms:modified>
  <cp:revision>19</cp:revision>
  <dc:subject/>
  <dc:title>PowerPoint Presentation</dc:title>
</cp:coreProperties>
</file>